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5D31-5700-4B52-A4B6-91ECFE8D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B1C2-CB99-4BF9-9CA2-95A6A93B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3B1D-7F6E-482D-9DB8-99F96738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3DE-B914-4E90-B9B7-6620A8EC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6A07-FDB6-403F-9025-776581C2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145C-CF47-4FC9-9E28-1A847883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71B1-DFEE-483A-A818-8DEE14F4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F53C-0CB2-4374-841C-2E25F5A7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0DE9-CF22-4EE0-825D-5572263C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AB86-47FA-4179-BE88-908BC0BE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F474-72A6-47B3-8F40-4286C2BA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F0F9-7AE0-4692-8177-9CDDD68A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75DD-67D9-46D0-9C43-40FB0962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75C7-0E21-4366-AA39-D1BDB8AD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C68F-7B80-4FA9-829D-8386683F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CB8D-A044-4E25-B075-EB0B55EB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A44F-CAE0-4847-AFCF-48317EEE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D06B-373A-4576-868A-4A1DD11E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AF08-746F-4EE2-955A-30309E71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D733-AFC6-4714-B9E5-2811C1BC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7ED-7829-4C0D-AE84-A5D7CB96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9B19-772F-4415-801B-9D4BAEC8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3395-9C84-4799-A80A-B0E72170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9838-D2B0-42E0-AD18-F55C58E5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79BC-D655-4C02-83A3-D50DB479E7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734C-0B38-4BB8-AD59-8637F865C6D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Operációs Rendszerek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 Folyamatok környeze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nnek tartalmaznia kell a folyamatok leírásához szükséges összes információ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Része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elhasználói címté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ezérlési információk (u-tér, proc struktú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Hitelesítők (uid, gi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örnyzetváltozó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Hardverkörnyez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ezérlő információ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Tahoma"/>
              </a:rPr>
              <a:t>U-terül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Hardverkörnyez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Mutató a folyamattábla bejegyzés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Valós és tényleges UID, G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Visszaadott érték, hibaérték az aktuális rendszerhívásbó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Jelzéskezelő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CPU használati statisztikák, erőforrás-korlát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Tahoma"/>
              </a:rPr>
              <a:t>Proc struktú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Munkamenet azonosító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Kernel címleképezési térkép az u-területhez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Mutatók az ütemezési sorokba (alvók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Mutatók az aktív, szabad ill. zombi folyamat sorok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Hierarchia információ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Ütemezési információk és prioritás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Memóriakezelési információ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557360"/>
            <a:ext cx="3827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lyamatok létrehozás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ork rendszerhívá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eladata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Háttértár terület foglalá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PID generálá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Proc struktúra foglalás és inicializálá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Osztottan használt kódtartomány megfelelő kezelé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Hardverkörnyezet inicializálása (szülőtő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Folyamat futásra késszé téte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lyamatok befejezés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xit rendszerhívás. (vagy a folyamat, vagy az operációs rendszer hívja me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eladata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Nyitott állományok lezárá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erőforrás használati statisztikák és a kilépési státusz elmenté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címtér, a foglalt területek, a háttértár terület felszabadítá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szülö felébresztése amennyiben az alszi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Átlépés zombi állapot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Ütemezé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övetelmények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acsony válaszid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gy átbocsátóképessé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Éheztetés elkerülé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rendszer terhelését figyelembevevő ütemezé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felhasználónak legyen lehetősége a folyamatok futási esélyeinek befolyásolásá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elhasználói módba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gszakíthat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áltozó prioritású folyamat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zonos prioritású folyamatok esetés FCFS, R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ffff"/>
                </a:solidFill>
                <a:uFillTx/>
                <a:latin typeface="Tahoma"/>
              </a:rPr>
              <a:t>Kernel módba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Nem megszakíthat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Rögzített prioritású folyamat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ioritások meghatározás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ffff"/>
                </a:solidFill>
                <a:uFillTx/>
                <a:latin typeface="Tahoma"/>
              </a:rPr>
              <a:t>Kernel módba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tatik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Nem függ a CPU-használattó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lvási prioritá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ffff"/>
                </a:solidFill>
                <a:uFillTx/>
                <a:latin typeface="Tahoma"/>
              </a:rPr>
              <a:t>Felhasználói módb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Egy adott pillanatban két dolog határozza meg:NICE-szám, CPU-használ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Befolyásoló paraméter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p_pr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p_usrpr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p_cp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p_n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179280" y="404640"/>
          <a:ext cx="8785440" cy="6120000"/>
        </p:xfrm>
        <a:graphic>
          <a:graphicData uri="http://schemas.openxmlformats.org/drawingml/2006/table">
            <a:tbl>
              <a:tblPr/>
              <a:tblGrid>
                <a:gridCol w="2855880"/>
                <a:gridCol w="3000600"/>
                <a:gridCol w="2928960"/>
              </a:tblGrid>
              <a:tr h="12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tó folyam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nden folyam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nden óramegszakítá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_cpu:=p_cpu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gvizsgálja, van-e a futónál magasabb prioritású folyamat, ha van, újraüteme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nden 10. óramegszakítá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und-Robin algoritm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nden 100. Óramegszakítá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3c145"/>
                        </a:buClr>
                        <a:buSzPct val="8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orrekciós faktor újraszámítá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3c145"/>
                        </a:buClr>
                        <a:buSzPct val="8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_cpu=p_cpu*K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3c145"/>
                        </a:buClr>
                        <a:buSzPct val="8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_usrpri=P_USER+p_cpu/4+2*p_n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z ütemezés értékelé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Nem méretezhető megfelelő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Nem lehet fix válaszidőt garantál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kernel feltarthatja az egész rendsze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nice szám nem elég hatás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örnyezetváltáso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Nem preemtív esetb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Sleep rendszerhívás. utá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xit rendszerhívás. utá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reemtív esetb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100. óraciklusban (lehetség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10. óraciklusban (lehetség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örténe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1960-as évek vége – Bell Labs, General Electric, MIT közös projekt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1969 – Ken Thompson – „Űrutazás”-játé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1971 – Első Unix-publikáció (K. Thompson és Dennis Ritchi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Ingyenes terjeszté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1974 – kaliforniai Berkeley Egyet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BSD Berkeley Software Distrib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>
            <a:off x="1258920" y="5734080"/>
            <a:ext cx="792000" cy="216000"/>
          </a:xfrm>
          <a:prstGeom prst="rightArrow">
            <a:avLst>
              <a:gd name="adj1" fmla="val 50000"/>
              <a:gd name="adj2" fmla="val 9166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lyamatok közötti kommunikáció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özösen használt tárterüle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Üzenetváltással – kommunikációs csatornán keresztü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lzés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sővezeték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lyamat nyomköveté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Állományrendszere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Lokál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Távo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NFS fájlrendsz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ystem V (s5f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Berkeley Fast (FF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5f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gikai szerkezet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971640" y="2781360"/>
            <a:ext cx="1736640" cy="4316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Boot blok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700360" y="2781360"/>
            <a:ext cx="1942920" cy="4316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zuper blok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372360" y="2781360"/>
            <a:ext cx="2016000" cy="4316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at blokk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643280" y="2781360"/>
            <a:ext cx="1738440" cy="4316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node blok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 szuperblokk szerkeze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állományrendszer mére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Szabad blokkok szá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Szabad blokkok listá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következő szabad blokk index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inode lista mére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szabad inode-ok szá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Inode l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következő szabad inode index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Módosítás jelzőb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Tahoma"/>
              </a:rPr>
              <a:t>Inode list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Tartalmaz egy típus mezőt: 0, ha szab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zabad inode-ok listája </a:t>
            </a:r>
            <a:r>
              <a:rPr b="0" lang="hu-H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szuper blokkon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belü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zabad lemezblokkok listáj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zabad lemezblokkokat adminisztrálni kel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zuperblokk tartalmaz egy szaba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kklistát (rögzített méretű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Tahoma"/>
              </a:rPr>
              <a:t>ino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izikai állományhoz tartozó azonosít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rtalmaz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lajdonos azonosítót (UID, GI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z állomány típusá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Állomány-hozzáférési jogosultságok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őcímké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kek számá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ímtáblá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állományméret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Tahoma"/>
              </a:rPr>
              <a:t>In-core ino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rtalmaz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átusz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rszám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tatóka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vatkozásszámláló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guláris állományok szerkezet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UNIX az indexelt allokáció egy speciális formáját alkalmazza az állományokhoz tartozó adatblokkok lefoglalásak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Állománykezelé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olyamatonkénti állományleíró táb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Globális állománytáb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Inode tábla (in-core inod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zabványosítási kísérletek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T&amp;T – System V Interface Definition (SVI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EEE – Posi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X/Open – X/Open Portability Gu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IPC és hálózati kommunikációs eszközö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ernelváltoztatások több processzor eseté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Állományok és könyvtára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4427640" y="1484280"/>
            <a:ext cx="934920" cy="5047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067280" y="3716280"/>
            <a:ext cx="934920" cy="5047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f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916360" y="3716280"/>
            <a:ext cx="934920" cy="5047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d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76360" y="2492280"/>
            <a:ext cx="934920" cy="5050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b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348000" y="2492280"/>
            <a:ext cx="934920" cy="5050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d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580000" y="2492280"/>
            <a:ext cx="935280" cy="5050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51640" y="2492280"/>
            <a:ext cx="935280" cy="5050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us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948360" y="3716280"/>
            <a:ext cx="935280" cy="5047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be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209080" y="3716280"/>
            <a:ext cx="934920" cy="5047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laj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4360" y="3716280"/>
            <a:ext cx="431640" cy="3603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c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76360" y="3716280"/>
            <a:ext cx="431640" cy="3603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m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24000" y="3716280"/>
            <a:ext cx="432000" cy="3603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012000" y="3789360"/>
            <a:ext cx="865080" cy="3603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passw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292720" y="3789360"/>
            <a:ext cx="647640" cy="3603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ho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0" y="4941720"/>
            <a:ext cx="431640" cy="3603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708360" y="4941720"/>
            <a:ext cx="432000" cy="3603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516720" y="4941720"/>
            <a:ext cx="647640" cy="3589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j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2124000" y="1989000"/>
            <a:ext cx="273528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3851280" y="1989000"/>
            <a:ext cx="100800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859280" y="1989000"/>
            <a:ext cx="108108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859280" y="1989000"/>
            <a:ext cx="302580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900000" y="2997360"/>
            <a:ext cx="93528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1692000" y="2997360"/>
            <a:ext cx="14292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835280" y="2997360"/>
            <a:ext cx="50472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419280" y="2997360"/>
            <a:ext cx="36036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780000" y="2997360"/>
            <a:ext cx="72072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5651280" y="2997360"/>
            <a:ext cx="36036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012000" y="2997360"/>
            <a:ext cx="36036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7380360" y="2997360"/>
            <a:ext cx="50472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885080" y="2997360"/>
            <a:ext cx="71928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3924000" y="4221000"/>
            <a:ext cx="64764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72000" y="422100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6877080" y="4221000"/>
            <a:ext cx="50328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Jogosultságo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inden fájl (ide tartozik a könyvtár is) rendelkezik az -rwxrwxrwx jelekke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z első karakt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özönséges fáj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önyvtá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pi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szimbolikus lin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arakteres készülékmeghajt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blokkos készülékmeghajt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Jogosultságok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042920" y="1700280"/>
          <a:ext cx="7057800" cy="3743640"/>
        </p:xfrm>
        <a:graphic>
          <a:graphicData uri="http://schemas.openxmlformats.org/drawingml/2006/table">
            <a:tbl>
              <a:tblPr/>
              <a:tblGrid>
                <a:gridCol w="1186920"/>
                <a:gridCol w="5870880"/>
              </a:tblGrid>
              <a:tr h="93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wxr-xr-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zámomra minden, más mindenkinek olvasás, futtatá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wxr-x--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zámomra minden, csoportomnak olvasás, futtatás, másnak semm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wsr-xr-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zámomra minden, más mindenkinek olvasás, futtatás+ user-id b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wSr--r-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zámomra olv., írás, más mindenkinek olvasás+ user-id b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cc"/>
                </a:solidFill>
                <a:latin typeface="Tahoma"/>
              </a:rPr>
              <a:t>Néhány UNIX-parancs</a:t>
            </a:r>
            <a:r>
              <a:rPr b="0" lang="hu-H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pwd: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(print working directory) Megadja az aktuális katalógus nevé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ls: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[kapcsolók] [fájlok]; Könyvtárak tartalmát jeleníti meg, vagy megadott fájlokat listá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cat: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[kapcsolók] [fájlok]; állomány megjelenítése a képernyő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rm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(remove) [kapcsoló] [név]: állományt törö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cc"/>
                </a:solidFill>
                <a:latin typeface="Tahoma"/>
              </a:rPr>
              <a:t>Néhány UNIX-paran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cd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(change directory) [elérési út]: mozgás az állományrendszerb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mkdir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(make directory) [kapcs] [név]: könyvtárat hoz lét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rmdir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(remove directory) [kapcsoló] [név]: létező könyvtár törlé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cc"/>
                </a:solidFill>
                <a:latin typeface="Tahoma"/>
              </a:rPr>
              <a:t>Néhány UNIX-paran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chmod: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[kapcsolók] jogosultságok fájlok; A megadott fájlok jogosultságait módosítj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chown: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[kapcsolók] tulajdonos [.csoport] fájlok; A megadott fájlok tulajdonosát, és ha megadják, csoportját módosítj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chgrp: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[kapcsolók] csoportfájlok; A fájlok csoporttagságát módosítja. Ezt a parancsot a rendszer adminisztrátora vagy a megadott fájlok tulajdonosa hajthatja vég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cc"/>
                </a:solidFill>
                <a:latin typeface="Tahoma"/>
              </a:rPr>
              <a:t>Néhány UNIX-paran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cp: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[kapcsolók] file1 file2--vagy [kapcsolók] file-ok könyvtár; File-ok másolására használható, ha a célfile már létezik, felülír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diff: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[kapcsolók] file1 file2; Két file-t vagy két könyvtárban lévő állományokat hasonlít össz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cc"/>
                </a:solidFill>
                <a:latin typeface="Tahoma"/>
              </a:rPr>
              <a:t>Néhány UNIX-paran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ln: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[kapcsolók] útnév cél_útnév; Csatolást hoz létre (linket). Kapcsolók nélkül ez hard-link, vagyis szoros kapcsolat. Ha másik állományrendszerre szeretnénk linkelni, vagy laza kapcsolattal (soft-link), akkor a -s kapcsolót kell használn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35 éves fejlődést az hardvertechnológiák eltérő fejlődési sebessége is nagy mértékben befolyásol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távolodott az „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 kicsi szé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 filozófiátó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első szerkeze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hagyományos Unix felépítésében keveredik a réteges ill. blokkos szerkez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modern UNIX-ok egyre inkább a blokkos szerkezet felé közeledn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lyamatkezelé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1187280" y="3500280"/>
            <a:ext cx="863640" cy="86544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340000" y="3500280"/>
            <a:ext cx="863640" cy="86544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564000" y="3500280"/>
            <a:ext cx="863640" cy="86544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3500280"/>
            <a:ext cx="863640" cy="86544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19640" y="285264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701800" y="3672000"/>
            <a:ext cx="112680" cy="614160"/>
          </a:xfrm>
          <a:custGeom>
            <a:avLst/>
            <a:gdLst/>
            <a:ahLst/>
            <a:rect l="l" t="t" r="r" b="b"/>
            <a:pathLst>
              <a:path w="71" h="387">
                <a:moveTo>
                  <a:pt x="44" y="0"/>
                </a:moveTo>
                <a:cubicBezTo>
                  <a:pt x="30" y="42"/>
                  <a:pt x="58" y="59"/>
                  <a:pt x="35" y="99"/>
                </a:cubicBezTo>
                <a:cubicBezTo>
                  <a:pt x="30" y="108"/>
                  <a:pt x="17" y="111"/>
                  <a:pt x="8" y="117"/>
                </a:cubicBezTo>
                <a:cubicBezTo>
                  <a:pt x="28" y="176"/>
                  <a:pt x="0" y="118"/>
                  <a:pt x="44" y="153"/>
                </a:cubicBezTo>
                <a:cubicBezTo>
                  <a:pt x="52" y="160"/>
                  <a:pt x="56" y="171"/>
                  <a:pt x="62" y="180"/>
                </a:cubicBezTo>
                <a:cubicBezTo>
                  <a:pt x="54" y="188"/>
                  <a:pt x="20" y="219"/>
                  <a:pt x="17" y="234"/>
                </a:cubicBezTo>
                <a:cubicBezTo>
                  <a:pt x="12" y="267"/>
                  <a:pt x="47" y="289"/>
                  <a:pt x="71" y="297"/>
                </a:cubicBezTo>
                <a:cubicBezTo>
                  <a:pt x="43" y="304"/>
                  <a:pt x="26" y="297"/>
                  <a:pt x="26" y="333"/>
                </a:cubicBezTo>
                <a:cubicBezTo>
                  <a:pt x="26" y="353"/>
                  <a:pt x="53" y="387"/>
                  <a:pt x="53" y="38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959280" y="3686040"/>
            <a:ext cx="128520" cy="600120"/>
          </a:xfrm>
          <a:custGeom>
            <a:avLst/>
            <a:gdLst/>
            <a:ahLst/>
            <a:rect l="l" t="t" r="r" b="b"/>
            <a:pathLst>
              <a:path w="81" h="378">
                <a:moveTo>
                  <a:pt x="17" y="0"/>
                </a:moveTo>
                <a:cubicBezTo>
                  <a:pt x="81" y="21"/>
                  <a:pt x="65" y="45"/>
                  <a:pt x="35" y="90"/>
                </a:cubicBezTo>
                <a:cubicBezTo>
                  <a:pt x="49" y="133"/>
                  <a:pt x="39" y="149"/>
                  <a:pt x="8" y="180"/>
                </a:cubicBezTo>
                <a:cubicBezTo>
                  <a:pt x="28" y="239"/>
                  <a:pt x="0" y="181"/>
                  <a:pt x="44" y="216"/>
                </a:cubicBezTo>
                <a:cubicBezTo>
                  <a:pt x="52" y="223"/>
                  <a:pt x="56" y="234"/>
                  <a:pt x="62" y="243"/>
                </a:cubicBezTo>
                <a:cubicBezTo>
                  <a:pt x="21" y="270"/>
                  <a:pt x="16" y="273"/>
                  <a:pt x="44" y="315"/>
                </a:cubicBezTo>
                <a:cubicBezTo>
                  <a:pt x="25" y="372"/>
                  <a:pt x="26" y="350"/>
                  <a:pt x="26" y="37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71760" y="3672000"/>
            <a:ext cx="85680" cy="614160"/>
          </a:xfrm>
          <a:custGeom>
            <a:avLst/>
            <a:gdLst/>
            <a:ahLst/>
            <a:rect l="l" t="t" r="r" b="b"/>
            <a:pathLst>
              <a:path w="54" h="387">
                <a:moveTo>
                  <a:pt x="0" y="0"/>
                </a:moveTo>
                <a:cubicBezTo>
                  <a:pt x="3" y="9"/>
                  <a:pt x="2" y="20"/>
                  <a:pt x="9" y="27"/>
                </a:cubicBezTo>
                <a:cubicBezTo>
                  <a:pt x="16" y="34"/>
                  <a:pt x="35" y="27"/>
                  <a:pt x="36" y="36"/>
                </a:cubicBezTo>
                <a:cubicBezTo>
                  <a:pt x="39" y="55"/>
                  <a:pt x="18" y="90"/>
                  <a:pt x="18" y="90"/>
                </a:cubicBezTo>
                <a:cubicBezTo>
                  <a:pt x="37" y="147"/>
                  <a:pt x="54" y="153"/>
                  <a:pt x="0" y="189"/>
                </a:cubicBezTo>
                <a:cubicBezTo>
                  <a:pt x="31" y="235"/>
                  <a:pt x="31" y="259"/>
                  <a:pt x="0" y="306"/>
                </a:cubicBezTo>
                <a:cubicBezTo>
                  <a:pt x="40" y="346"/>
                  <a:pt x="27" y="320"/>
                  <a:pt x="27" y="38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86680" y="3743280"/>
            <a:ext cx="96480" cy="542880"/>
          </a:xfrm>
          <a:custGeom>
            <a:avLst/>
            <a:gdLst/>
            <a:ahLst/>
            <a:rect l="l" t="t" r="r" b="b"/>
            <a:pathLst>
              <a:path w="61" h="342">
                <a:moveTo>
                  <a:pt x="0" y="0"/>
                </a:moveTo>
                <a:cubicBezTo>
                  <a:pt x="44" y="29"/>
                  <a:pt x="27" y="32"/>
                  <a:pt x="0" y="72"/>
                </a:cubicBezTo>
                <a:cubicBezTo>
                  <a:pt x="41" y="99"/>
                  <a:pt x="61" y="142"/>
                  <a:pt x="0" y="162"/>
                </a:cubicBezTo>
                <a:cubicBezTo>
                  <a:pt x="16" y="209"/>
                  <a:pt x="31" y="199"/>
                  <a:pt x="18" y="252"/>
                </a:cubicBezTo>
                <a:cubicBezTo>
                  <a:pt x="37" y="310"/>
                  <a:pt x="50" y="301"/>
                  <a:pt x="9" y="34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516720" y="3645000"/>
            <a:ext cx="96840" cy="542880"/>
          </a:xfrm>
          <a:custGeom>
            <a:avLst/>
            <a:gdLst/>
            <a:ahLst/>
            <a:rect l="l" t="t" r="r" b="b"/>
            <a:pathLst>
              <a:path w="61" h="342">
                <a:moveTo>
                  <a:pt x="0" y="0"/>
                </a:moveTo>
                <a:cubicBezTo>
                  <a:pt x="44" y="29"/>
                  <a:pt x="27" y="32"/>
                  <a:pt x="0" y="72"/>
                </a:cubicBezTo>
                <a:cubicBezTo>
                  <a:pt x="41" y="99"/>
                  <a:pt x="61" y="142"/>
                  <a:pt x="0" y="162"/>
                </a:cubicBezTo>
                <a:cubicBezTo>
                  <a:pt x="16" y="209"/>
                  <a:pt x="31" y="199"/>
                  <a:pt x="18" y="252"/>
                </a:cubicBezTo>
                <a:cubicBezTo>
                  <a:pt x="37" y="310"/>
                  <a:pt x="50" y="301"/>
                  <a:pt x="9" y="34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659640" y="3716280"/>
            <a:ext cx="96840" cy="542880"/>
          </a:xfrm>
          <a:custGeom>
            <a:avLst/>
            <a:gdLst/>
            <a:ahLst/>
            <a:rect l="l" t="t" r="r" b="b"/>
            <a:pathLst>
              <a:path w="61" h="342">
                <a:moveTo>
                  <a:pt x="0" y="0"/>
                </a:moveTo>
                <a:cubicBezTo>
                  <a:pt x="44" y="29"/>
                  <a:pt x="27" y="32"/>
                  <a:pt x="0" y="72"/>
                </a:cubicBezTo>
                <a:cubicBezTo>
                  <a:pt x="41" y="99"/>
                  <a:pt x="61" y="142"/>
                  <a:pt x="0" y="162"/>
                </a:cubicBezTo>
                <a:cubicBezTo>
                  <a:pt x="16" y="209"/>
                  <a:pt x="31" y="199"/>
                  <a:pt x="18" y="252"/>
                </a:cubicBezTo>
                <a:cubicBezTo>
                  <a:pt x="37" y="310"/>
                  <a:pt x="50" y="301"/>
                  <a:pt x="9" y="34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00000" y="5013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folyamat egyetlen utasítássorozatot hajt végre, egy címtérb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724360" y="4941720"/>
            <a:ext cx="25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gy folyamaton belül egyszerre több szálon futhat végrehajtás, több vezérlési pont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égrehajtási módo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rivilegizált kernel mód – felügyelt mó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elhasználói mó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égrehajtási környeze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lyamat környez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ndszerkörnyez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lyamatok állapotai és állapotráfj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UNIX folyamatai jól definiált hierarchiát alkotn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den pillanatban egy jól meghatározható állapotban vann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07:43:01Z</dcterms:created>
  <dc:creator>Nagymáté Péter</dc:creator>
  <dc:description/>
  <dc:language>en-US</dc:language>
  <cp:lastModifiedBy>Nagymáté Péter</cp:lastModifiedBy>
  <dcterms:modified xsi:type="dcterms:W3CDTF">2004-06-03T07:57:50Z</dcterms:modified>
  <cp:revision>4</cp:revision>
  <dc:subject/>
  <dc:title>Operációs Rendszerek</dc:title>
</cp:coreProperties>
</file>